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91A4-0BE4-45F4-9CB2-C6D56DEFC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4167-D36F-48D8-A09E-4688745F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0645-94CA-4C46-9F6F-E4E7CF386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FA13-73F5-4983-B06A-896DF0B21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DE96-C6F9-4348-AE49-9AB07C9A8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C899-5CE5-4A9B-A7C9-117A7DA3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C5E5-3CE5-40CC-A02E-0F56B5B8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91A34-9B81-4AA5-B485-820FA26C2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4522-DDC2-4E76-931C-6A1ADA01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A7D2-588D-4A87-A412-79A9304B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0CCAB-ACE2-4BAC-A7B0-B468DEECC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A3BE-4274-4745-BCF4-6CDD284C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3F93-2202-47BB-977C-7DED4795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525E-FE47-4432-B35C-44D21656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505D1-D680-4088-B024-D96C753BC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F66B5-2D98-4227-8BC2-952AF6814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750A1-8594-4437-9C78-7BD1EBEDD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2FA1E8-CE98-4E51-B03F-3BD549086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99BDF5-4316-4EEE-9E00-25D952D1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79314D-5A35-429A-9E77-03374910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308523-D2C9-4309-B788-DAE45130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DFE65B-CBD3-4731-BF94-3DC50955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7332-F7D1-47A0-B2AA-B49E56CF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5A7C5A-3611-4263-A594-1E99A094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64D559-4DB3-43EE-A090-AF5E76BA9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E52A38-D91B-4A4B-B368-FB4BE8E1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68C287-B411-445C-9889-E8F42197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350823-3FB1-4374-9DB3-7BE8D2DD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45F57C-E60E-4880-BCC2-FD8C676F1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A54FAC-2A1D-4A69-9BDD-AD9E7D1F8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590F22-AA26-410A-BEAE-D1A01E373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43A3C0-F572-48EA-829A-38D3AA77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8ACFD3-BE2F-490D-9DAD-9294F9075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2F7D-2A75-47A1-9DA3-E0A8F50F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364A57-B948-4BA4-A443-F5994CAB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AF644D-9C5E-4A41-B7F8-5416D541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991D0A-851D-4BB3-B306-6B762024D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0FBF1B-7EB4-4547-A541-7CB00554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5F6F75-D0B8-4486-8FC9-55FF4FD4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76777A-BA0A-413D-8DD8-A2ACB962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91B415-2510-4C2D-8CF0-DCFAF4DC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F6AD2C-2761-4902-BD9C-70C71B07B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BC130B-42DB-430D-9A2D-B602357A6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17DB4A-5DCA-4ADE-8944-386D755FB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BED1-9C30-40BC-8E95-A3DADFDE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16AD95-4D70-4509-B040-66EA4529C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F93A48-663C-485E-888C-20E916D11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65CB0E-865A-4977-977D-1EB7A028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F34AAB-E738-4573-A3BA-CD2E3CFE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3FB065-8FE8-44C8-8877-468AD655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459D683-4086-44BF-AD9F-BBA13EA2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A6236B-3791-4DB0-B786-536483B1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DFAAA9-8868-42C9-B9BC-E55242BF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F3E389-7EC3-4C61-8A6D-9C4B383F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DD4950-5913-4A15-BB27-4FB1EDF95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171F-266A-43AA-B8BA-319D1ED9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045040-6E99-4E54-A1B6-69623BDA5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8FFB0-C1EA-40FC-8AAA-838A5B86C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72A2F-508A-4A3B-A254-5237069F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E9A9E-706D-450A-B234-F2739C6E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02593-2B91-4481-A652-6B76B3DF4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9D88D5-1E2F-48F3-AF09-5ACDABBE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50AB9-93ED-40B0-B686-84790B53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5EBFD-59FC-47D2-A7AA-725A5072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F28BE-B9E2-4849-BB06-904BE51A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15939-D5EF-43E4-B413-A1B5307E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DEC1-9FB2-4B62-8323-630CD833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0F0BA-8B66-4FDF-B668-8AB50E2F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06D2B-D937-40E6-BA70-B3C2FB6C7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33B14-03B3-446A-BF8D-A1E4C6A79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5A1C19-85C3-492C-BA2D-78E8F45A1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ABD12A-096A-40A8-B519-4D1AD578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BBD17F-E24A-4C13-A84A-40B88DFE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DCA9C5-0E05-4ABE-AFB8-CE221220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F1C61C-ADF7-4F5A-AAEC-58EA4BC9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F84E31-3D02-47EF-B0E5-C59535A6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C243B5-12BB-479B-BD70-E1451912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A1B5-51AC-41B8-8485-1DCB5173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27A1F3-A7BA-433A-90BD-721965B9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19296E-FB22-4DCD-852F-72251D05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3967CB-C232-4372-B3B5-9C65D9ED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A92885-B3B9-4391-B7E2-756BA3963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9A40F5-49C4-410C-A470-35E5FBCF0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D8D12-4683-4531-9FD2-4D6D60C4A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8E97D-B716-4F78-999F-087C8B6C3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2F0A45-D14B-43A4-B19B-986F8978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EEE781-0D9B-4EBB-9F77-06AC3279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0CE11-8060-4682-99CF-9BFF02FE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BD92-51AF-42B9-B40A-A4FEFFEE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3C9D98-B0CB-4847-95FF-59D8AF7A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DF578-309F-4EF6-AFED-CD98CC2B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2034A-11F3-492D-A636-90FA4BF0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C4065-0B46-4BAA-A437-012B45EF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47FA37-448C-434E-9341-06D4A427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8B164-5954-4FBB-9D3C-49D23EB11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01560-7E2C-49B7-9956-8C4447636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2a37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b0ccb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8cd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0bea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4FFED-14B2-405D-89AE-2D8CD1C9242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bde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aebde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2a37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b0ccb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8cd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0bea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bde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521CA-E3C4-41A2-B744-6D6B7C708CED}" type="slidenum">
              <a:rPr b="1" lang="en-US" sz="1400" spc="-1" strike="noStrike">
                <a:solidFill>
                  <a:srgbClr val="eaebd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2a37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b0ccb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8cd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0bea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A6A84-8245-4539-85DE-919844AAC79D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2a37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b0ccb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8cd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0bea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85BC1-A750-4E57-BB34-4D45A59A181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2a37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b0ccb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8cd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0bea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C29A-8581-4F18-BF49-C28759B7D03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2a37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b0ccb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8cd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0bea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61F54-0827-4064-8B45-6E180969E43E}" type="slidenum">
              <a:rPr b="1" lang="en-US" sz="1400" spc="-1" strike="noStrike">
                <a:solidFill>
                  <a:srgbClr val="676a5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2a37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b0ccb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8cd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0bea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70FE7-A251-48BB-8428-C191FC3121CC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72a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b0cc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72a376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b0ccb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8cdd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c0bea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76a5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76a5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9376-E5B5-4902-A4C1-A3288AEF9FD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3" descr=""/>
          <p:cNvPicPr/>
          <p:nvPr/>
        </p:nvPicPr>
        <p:blipFill>
          <a:blip r:embed="rId1"/>
          <a:stretch/>
        </p:blipFill>
        <p:spPr>
          <a:xfrm>
            <a:off x="615960" y="950760"/>
            <a:ext cx="7845480" cy="2005200"/>
          </a:xfrm>
          <a:prstGeom prst="rect">
            <a:avLst/>
          </a:prstGeom>
          <a:ln w="0">
            <a:noFill/>
          </a:ln>
        </p:spPr>
      </p:pic>
      <p:pic>
        <p:nvPicPr>
          <p:cNvPr id="351" name="Rectangle 4" descr=""/>
          <p:cNvPicPr/>
          <p:nvPr/>
        </p:nvPicPr>
        <p:blipFill>
          <a:blip r:embed="rId2"/>
          <a:stretch/>
        </p:blipFill>
        <p:spPr>
          <a:xfrm>
            <a:off x="1011240" y="3535200"/>
            <a:ext cx="7047000" cy="2067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76a55"/>
                </a:solidFill>
                <a:latin typeface="comic"/>
              </a:rPr>
              <a:t>Histoire</a:t>
            </a:r>
            <a:endParaRPr b="0" lang="en-US" sz="88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609120" y="15235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fr-FR" sz="3000" spc="-1" strike="noStrike">
                <a:solidFill>
                  <a:srgbClr val="0f1710"/>
                </a:solidFill>
                <a:latin typeface="Century Schoolbook"/>
              </a:rPr>
              <a:t>Depuis des millénaires, l'Homme a créé et utilisé des outils l'aidant à calculer. Pour réaliser des calculs complexes, il a également mis au point des algorithmes.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f1710"/>
                </a:solidFill>
                <a:latin typeface="Century Schoolbook"/>
              </a:rPr>
              <a:t>	</a:t>
            </a:r>
            <a:r>
              <a:rPr b="0" lang="fr-FR" sz="3000" spc="-1" strike="noStrike">
                <a:solidFill>
                  <a:srgbClr val="0f1710"/>
                </a:solidFill>
                <a:latin typeface="Century Schoolbook"/>
              </a:rPr>
              <a:t>	</a:t>
            </a:r>
            <a:r>
              <a:rPr b="0" lang="fr-FR" sz="3000" spc="-1" strike="noStrike">
                <a:solidFill>
                  <a:srgbClr val="0f1710"/>
                </a:solidFill>
                <a:latin typeface="Century Schoolbook"/>
              </a:rPr>
              <a:t>Maintenant que l'électronique a fait des progrès suffisants et que les premiers calculateurs ont fait leurs preuves, les ordinateurs vont pouvoir apparaître, nés du besoin de réaliser des opérations de plus en plus complexes.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zoom dir="in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7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70" fill="hold"/>
                                        <p:tgtEl>
                                          <p:spTgt spid="3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w Cen MT"/>
            </a:endParaRPr>
          </a:p>
        </p:txBody>
      </p:sp>
      <p:pic>
        <p:nvPicPr>
          <p:cNvPr id="355" name="Picture 2" descr="http://histoire.info.online.fr/images/eniac4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6" name="TextBox 4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solidFill>
            <a:srgbClr val="000000"/>
          </a:solidFill>
          <a:ln w="10080">
            <a:solidFill>
              <a:srgbClr val="000000"/>
            </a:solidFill>
            <a:miter/>
          </a:ln>
          <a:effectLst>
            <a:outerShdw dist="2988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b"/>
                </a:solidFill>
                <a:latin typeface="Broadway"/>
              </a:rPr>
              <a:t>	</a:t>
            </a:r>
            <a:r>
              <a:rPr b="1" lang="fr-FR" sz="2800" spc="-1" strike="noStrike">
                <a:solidFill>
                  <a:srgbClr val="e3ede4"/>
                </a:solidFill>
                <a:latin typeface="Century Schoolbook"/>
              </a:rPr>
              <a:t>Non, ce n'est pas un homme qui choisit une bouteille de vin mais un technicien qui change l'un des plusiers(19000)tubes de l'ENIAC(Le premier ordinateur) 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pull dir="r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2" descr="http://histoire.info.online.fr/images/eniac5.jpeg"/>
          <p:cNvPicPr/>
          <p:nvPr/>
        </p:nvPicPr>
        <p:blipFill>
          <a:blip r:embed="rId1"/>
          <a:stretch/>
        </p:blipFill>
        <p:spPr>
          <a:xfrm>
            <a:off x="0" y="0"/>
            <a:ext cx="9121680" cy="6858000"/>
          </a:xfrm>
          <a:prstGeom prst="rect">
            <a:avLst/>
          </a:prstGeom>
          <a:ln w="0">
            <a:noFill/>
          </a:ln>
        </p:spPr>
      </p:pic>
      <p:pic>
        <p:nvPicPr>
          <p:cNvPr id="358" name="Rectangle 4" descr=""/>
          <p:cNvPicPr/>
          <p:nvPr/>
        </p:nvPicPr>
        <p:blipFill>
          <a:blip r:embed="rId2"/>
          <a:stretch/>
        </p:blipFill>
        <p:spPr>
          <a:xfrm>
            <a:off x="1700280" y="-96840"/>
            <a:ext cx="5748120" cy="1736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http://histoire.info.online.fr/images/eniac2.jpe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0" name="Rectangle 4" descr=""/>
          <p:cNvPicPr/>
          <p:nvPr/>
        </p:nvPicPr>
        <p:blipFill>
          <a:blip r:embed="rId2"/>
          <a:stretch/>
        </p:blipFill>
        <p:spPr>
          <a:xfrm>
            <a:off x="-158760" y="-225360"/>
            <a:ext cx="6718320" cy="206676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76a55"/>
                </a:solidFill>
                <a:latin typeface="comic"/>
              </a:rPr>
              <a:t>Métiers de l'informatique</a:t>
            </a:r>
            <a:br>
              <a:rPr sz="4800"/>
            </a:br>
            <a:endParaRPr b="0" lang="en-US" sz="4800" spc="-1" strike="noStrike">
              <a:solidFill>
                <a:srgbClr val="676a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85800" y="17521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fr-FR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fr-FR" sz="3600" spc="-1" strike="noStrike">
                <a:solidFill>
                  <a:srgbClr val="0f1710"/>
                </a:solidFill>
                <a:latin typeface="Century Schoolbook"/>
              </a:rPr>
              <a:t>L'informatique fait aujourd'hui partie intégrante de la majorité des entreprises, à un tel point que le métier d'informaticien s'est diversifié en une multitudes de fonctions spécialisées</a:t>
            </a:r>
            <a:r>
              <a:rPr b="0" lang="fr-FR" sz="3200" spc="-1" strike="noStrike">
                <a:solidFill>
                  <a:srgbClr val="0f1710"/>
                </a:solidFill>
                <a:latin typeface="Century Schoolboo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dissolv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fr-FR" sz="27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fr-FR" sz="3000" spc="-1" strike="noStrike">
                <a:solidFill>
                  <a:srgbClr val="0f1710"/>
                </a:solidFill>
                <a:latin typeface="Century Schoolbook"/>
              </a:rPr>
              <a:t>Aujourd’hui, l'informatique est présente dans la quasi-totalité des secteurs (banque, assurances, industrie, services, etc.) mais se présente généralement selon trois domaines d'application distincts :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100000"/>
              </a:lnSpc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f1710"/>
                </a:solidFill>
                <a:latin typeface="Century Schoolbook"/>
              </a:rPr>
              <a:t>L'informatique industrielle, scientifique et technologique ;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100000"/>
              </a:lnSpc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f1710"/>
                </a:solidFill>
                <a:latin typeface="Century Schoolbook"/>
              </a:rPr>
              <a:t>L'informatique de gestion ;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100000"/>
              </a:lnSpc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f1710"/>
                </a:solidFill>
                <a:latin typeface="Century Schoolbook"/>
              </a:rPr>
              <a:t>Les télécommunications et réseaux.</a:t>
            </a: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lnSpc>
                <a:spcPct val="100000"/>
              </a:lnSpc>
              <a:spcBef>
                <a:spcPts val="700"/>
              </a:spcBef>
              <a:buClr>
                <a:srgbClr val="b0ccb0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transition>
    <p:wheel spokes="3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" dur="20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http://cdn1.aradon.ro/2011/06/informatic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HOME</cp:lastModifiedBy>
  <dcterms:modified xsi:type="dcterms:W3CDTF">2012-12-02T10:31:47Z</dcterms:modified>
  <cp:revision>57</cp:revision>
  <dc:subject/>
  <dc:title>Slide 1</dc:title>
</cp:coreProperties>
</file>